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B78-AD4F-4857-BE0B-A80F5FCC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AAD-4BAD-4144-9533-6877254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93C66-DD7B-4B77-A963-E11A358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D1415-19E0-4E22-8D62-77A39021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4F56-CEF2-4D7E-8401-BE331A6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FD27B-195D-40C3-9F27-24A6D67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A48F-C6DF-4139-BAAB-85D2B60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84F88-670F-4046-A692-B5F9751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50ECA-8658-4501-B375-12C82D8A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340FB-1927-4A61-B378-B0E47BA9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868EE-4AF0-4B85-91D1-6BA3D183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885FD-897E-46D9-8CA0-0AAF4244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AA0-A72E-462E-A766-187A8527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127D0-F0BA-4508-A29C-6E97ADE4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A7436-677C-435C-B9CB-A4E56B86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38DA-3575-4E88-A2D3-2F1858D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2F2D0-E29F-4EB8-83CF-A1AB37B0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EAB6D-5744-4E0F-825B-0F13FC38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144DF-73C3-4EAC-81D0-A350C1C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82468-7C02-418C-BC1D-4E85CA4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D7D72-38D3-4151-9A8F-C5B1CE9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1222E-0CA5-4C85-AFF9-EB1574C2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11E87-F22F-4EF6-AB8B-E5CA2DD9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6D9-2E46-4822-BC4C-338C1C2B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475A2-2AFF-4894-82D6-1B9A4A43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4C3F6-B480-4837-AF15-0663AB3F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C3FAC-D45C-4A5F-A28E-5E20E48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7E258-4C41-44D8-87CB-EEC1C17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0D0A7-9994-4999-A7FB-C438DD08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7AF0C-D5A0-43DA-BE41-69136FDC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597D-BEAE-4072-A518-F781A9D6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9778-113C-4812-AD98-A630910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83DF3-FBAC-41B4-BD4F-5DFF672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12EF8-B6BF-4FCD-80A7-F0FCA52D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4117-D2AB-459C-A43E-245348CD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D028-02DD-41AE-8A63-35509C8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B26F9-D54B-4312-86A5-1228AD89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4FD35-142A-4C79-8C68-C5ADAB18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2D6C7-4A4E-4D48-A093-E29EA7B1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F2E82-52AA-486B-8BC2-C73C82D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6B7BB-7217-47D9-BC16-CABAB9BF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F9031-FBA8-462B-8900-0AB15924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40572-DB5D-484A-867E-6A533A4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28BC1-C9C4-4861-8712-72E563D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DE52E-0F30-4CD8-8375-35BB5D7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7A3-D6D7-4E47-A404-8B4F5FA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D3D26-DD05-4184-B904-17F8C01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A1BC1-1980-4D1D-9295-7408922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651F6-7D69-4E6C-BA1C-C5824ACC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6DFEA-909B-4DDD-A9EE-7182A22F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15E77-45A7-4E3D-9B8B-A3F3E1F6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7F9DC-E7BE-4E8C-B63F-B9403127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1F43D-8150-4C1E-B249-05CA456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671BE-4048-4CCF-A97A-E7440E3C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EFCB5-F9C1-449F-A7DC-127E2D9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BE2B0-362D-4F7B-86D3-5C03D8A5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5E0-4C7E-4199-B884-D97AFDD1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DE28A-85F3-4E8A-BB4A-26675D4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F9EE6-7C0C-445C-B79D-D72F7DB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8C41E-14D4-4433-A798-FC24FBC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58C3D-913F-41DD-ABC1-1BB8E84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40F7C-4F0F-4A89-AD04-C8F9B5B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58DDF-99FB-4DFC-A824-972EDA73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1C8AD-B777-497F-AC79-A3ADE781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E4F29-DA5F-455C-91E6-E9F67F4F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60B98-BC80-46ED-9189-4A966CE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9D652-79CF-4394-B1DA-2747394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8248-715D-4E20-92BB-CB0C6A8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1C3BA-4FA6-4389-84A3-BCCCF91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8E43A-F7BD-4368-8843-55A4DB8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F6DCB-B7A5-4C27-BC12-C48A1C9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FC05E-2CDD-4613-BE59-8DAB16D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6EE4C-5602-4E27-B2A4-C0ED0C7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FAD46-965A-4013-B9F8-44F55BF2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0288D-A4DB-4728-89ED-29D48EC6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2855B-824E-4999-B5A0-D0E9E5A5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AEF90-4564-413A-BD62-6F04299D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E3617-2EB8-41FC-B635-8FA8F857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6377-5BBC-42A2-B40D-A10ED6A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0A2B2-5F81-4FF8-AECF-05E3E304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53AAB-452D-434C-9842-C6017513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48D3D-A02F-4B6D-B7D3-A423246E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1E055-B1F4-45FC-AAE9-71063ED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8BB03-4EE5-4E62-ACAA-66DA370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E0639-E6B1-4B9D-83DE-E9C22C5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A0FE5-883C-40F3-9D30-FD41A74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29F81-392B-49A6-8BA6-5C11A48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C7259-5A89-4668-9E4C-C02A8B16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54BB6-2A6D-4E76-BC23-974B2ECC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1712-21EE-4BF5-875C-F14AE87C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0CF09-AC68-4A66-AE12-502D0743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59862-049D-4171-9FAF-0E308F94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6B0BA-1658-4DB9-A295-31911B8F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85955-0D06-4800-927F-2644EC21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C3C09-A45A-4593-8543-ED0A76F0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D6C49-456F-4143-B208-08FFBFBD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50AE7-0016-4B11-8E15-2B264E4C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028A5-2AC7-4DD9-A00A-49BF6F4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AAC36-7743-4F04-947F-D3ACA75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0E305-6730-4D30-9A3A-FD2D363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F0EA-219C-40D0-950E-B4CA511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AE1A8-D6B9-48FA-AC8A-0DBC948A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127DF-C769-481A-B2E1-F2BEA983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BE5A5-5E2B-4F48-A6D2-B2E15581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70898-4127-435E-945D-1D0E8FFA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E3C26-118A-408D-835A-EB1B86D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399F4-A67E-42AE-A8BF-D02AA285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14DB9-D4B4-4ADD-A50D-BD733320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12481-1B53-4901-BB34-B5A272A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D80DF-253D-44C3-8D24-BF9C2EE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9DAD2-AB41-4780-AD7D-3B6B0769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639-2FD7-4163-BE7F-DAC9015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A86-73BB-4F96-A97D-ABC6250C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31ED1-4651-43D5-B397-9A5A29F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5AB82-9634-421C-88E4-1F328E6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03F52-1EFE-46C5-A2B7-870A13D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2F6D9-E009-4E92-8FF4-15195C8B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BC725-8957-430D-87E6-C5D9FB09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B8EE3-0890-4DF3-A3C7-5291D7A1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467AA-4A54-4F26-9B13-2BBBAC3E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C17D3-C970-443F-803B-DFA6AAF7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B1774-0AE0-4E38-A918-092C14A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89FEB-156F-45F2-B1D1-7B75BE7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676-8A2A-4037-98F1-44659E6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56C92-7252-4265-BF1A-EA03DC7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F87AB-7DC4-4AFC-8296-E0EFBC1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383E0-DBAA-417D-983C-D02509D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C669D-B9B6-4F9A-A2CD-846036B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19A35-583A-441F-9A72-837381D1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F5AA2-C55F-4F92-A043-8C5F9870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984CF-699A-4353-AABD-56E902C1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64E27-6763-4E1F-8D69-5ED7B5AD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9E986-81C8-40BC-8383-EE35BD0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C8170-32A4-460A-9DE7-7AF3DAC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F5F-F716-482C-BA98-DF27AFBB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A7DC0-9844-461B-B6DB-2F92C958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D8A48-BFFA-4632-ACA6-6832C7F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A6D9A-6A1D-44BB-939E-B1F81A1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55B0D-F78E-4FDD-9B07-3E00228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0855D-1317-4A0D-8B1D-3061445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93109-31AE-4A63-A3D2-4A91C144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CAE3C-C317-4829-8F82-089F0EBE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8D033-ADC5-437C-81E6-247BC618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75D08-52E8-4A42-A85D-7335C6DF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AE706-4DEB-46D9-9E6A-7D2BCAAB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6565-586E-4AE8-92C7-5B9ACAD2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5665A-80D6-4E7D-B63A-C400615B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ABEE8-F5E0-49CB-B6A3-1CF0DA6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8B169-B05A-4D6D-8863-8229E98D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4B31B-61F4-418D-94BE-2A28294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BC04A-7592-4912-8BE5-EC828DB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7DEB1-341F-4522-899D-21D614D9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86F25-A2E5-4D83-917C-B23FD62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56C35-26A4-4EB0-BC3A-7FF8BB9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7E739-9C17-446E-8B18-0882EB05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781897-7A37-4823-8751-201072E6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6A9-2AFA-4F4E-9F0E-8B56A486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803DD-1BBB-483C-96A0-487D03EC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EDD51-067E-4A91-BF41-E180983D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6113A-3576-4565-B5EB-325819C4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0EB63-6960-4BE3-AF9C-DE3E29A3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B080B-63AB-4A19-B575-8754EDC6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D6B38-B876-4AEE-9F7F-177028DA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62D43-A493-49A1-85F4-2986456C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74C48-642A-48F6-BDF0-2D879C6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71125-E2AB-494B-A80E-91028E9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2E777F-970B-4461-9E91-6382724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9E30-F06A-4B0B-84B5-BAFDFD87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8C2386-580B-4D93-B5BD-A0B45DD8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614CF-BCFD-49E3-A0CE-BEF6A5FC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C7FD2-7B90-424B-950F-0CE65B35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87EB-F4C4-492A-BFD3-3B41D534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21C5-A283-4A06-A058-8DC62D6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9EAD-A536-4369-A80C-4CA2CED7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5818-F84C-4DC5-B3B0-70AA90B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57C-1ECF-4C04-BE33-05F5A14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170B-DF69-46DE-886A-61BC8910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1764-22CF-42EC-8A80-BB020FE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A35A-F27A-4358-8ADA-D061BED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6C53-4E68-4998-8F0A-087568B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BF41-8779-4465-9D23-D60883A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BAE5-176D-4FB0-8D45-C7E43B81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7E44-A859-4BB0-9FC9-0B9877B7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6622-3D49-483E-A27C-78F2C64A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921B-F0A5-4A54-8036-893465D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6B0A-8448-4D21-AC71-7976B02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EC4-38CF-4019-9749-A34B9E7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7747-31D3-49CF-A604-5C21665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4BAB-C840-4EE3-B123-A0CB13A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D5FF-D110-4F8E-B295-9B8F44F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8543-B3A2-4C11-8549-21C0E45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1987-799A-4D55-9511-408E8EB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A33C-AF1A-4A2F-8E10-BFD8211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D99C-F52F-482A-A88C-5911459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1051-2107-468F-85C7-F7F6F081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4A3C-875B-4DDD-97C0-B989A971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F9ED-F127-4AB1-86D8-D4CD7CF0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E4D-2B96-40EE-8CB6-132A3133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B9D1-11D0-4C67-94A6-DF303A75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C5DC-8D8A-4AA9-A63D-C6401AAA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DE987-0058-4706-96C4-8B3B631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6880-1F36-4CE1-8EE8-996724A9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2C58-BDDF-4571-9ED7-1F3EC212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5368-C169-4776-86ED-163BA48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2303-5190-490D-B355-59A663FD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EF50-E021-4848-87D2-8098D08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DEA8F-DEA1-4CDF-B5A6-6B6FD23B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7264-4811-4DD1-8B92-ADA639E9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446-4032-4067-9DE6-E61E84A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565C-76C6-4524-9236-FC3785DE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DD91-F528-4FC7-ABB9-2BA80C7F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9522-3B2D-4FAE-BE99-C56A0045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3426-1DA2-4DDF-9714-DF418947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DDEE-B47A-40E6-B650-2643D4F9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95694-04C4-4A25-A7FE-FC51272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D38E-69A0-4F75-B1FE-6760E5C5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04F6-5E24-4CC5-B540-BECF540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A8685-1E64-4CA1-84D0-7434126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EC02-4364-4560-975A-CC89C9D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512-18C5-493B-85D0-D0C7A35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5048-1525-4D1B-A59D-A3632223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7465-4D16-4D25-8164-8A8299FA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5CED-6340-482C-BCA6-A018352C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17A86-5903-4703-A1E8-1048E034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9A3AE-96E8-4AD9-A994-C8F0BB2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89236-D53B-4CA6-925C-D15AFAD7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EB24B-5B3C-4F88-BAA4-D7AC3FD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E9B7-63FE-4617-865D-0F02962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D1AA4-26BA-49EA-9B47-800E880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51F1-961E-4586-87DC-27FF864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C2D-BFBD-48F1-B6E9-D95F6DD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A8099-BFBC-4C79-B2A9-596B023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4FC4A-5D3A-4DD9-938A-023544C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844DC-2749-4563-A022-D063FDB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3DEB-9294-4C1F-B9F2-B6B4E6B5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1C81-8D86-455E-8BC4-0ED153D1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33DF-CC18-458C-A556-218505AA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54214-2F0E-4D8D-BE84-85B6D504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2E4EB-F2FF-43F5-BE24-1DB36040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23AD-D7DA-454C-9B2B-B49ABF94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6346-6EF0-4ECE-9A5C-91415BB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043-FC3D-4B8A-B9CB-2C087D3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025C5-AD82-4E03-9D7B-48B32229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93B06-3415-4DB8-9270-775C47C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7116-BA79-4FE2-B8A1-37C460D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1651-1485-4922-8689-AB8E310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69807-3365-4EF1-8A45-16C3D9B9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B43C3-F3F2-4AF3-9EB0-CC0A8ABE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BBC3E-555D-45C2-9EA6-02BC50CC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E215-CCEB-4786-B793-EE159E58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21A11-03A4-45FC-B210-50E33FC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2BB9B-0377-4890-8671-761256F3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411-9CE7-42F7-AD82-37E58C55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2855-A6FC-4ECF-BC0D-74572C312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666-C9BF-434E-8935-CCCFCE70D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4F85-9513-43EE-A3EA-7829C40BC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73C-FFEB-4190-AB00-617240E844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9409-FC3C-40E1-935E-6D2EA7B09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4335-24C0-4F1D-BAD9-46DBF03F1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C6F-33CD-4A46-BA71-783CB4096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B5D-8142-48A4-92CF-D0F335749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338-DCCA-40B7-AABF-BA99C32CFF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F71-5ED0-4401-B0C7-DE08DFE10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ED61-0CDA-4D7C-A064-8AFC9991C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E7A7-17BF-4E76-8D25-61BBFC6B6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96C-FB50-40A7-8E9E-9E43ED6A22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0E7C-A8A7-4782-ADD7-538C2147F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26BC-8E05-4840-8233-E58E9DBD0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EDE5-46BA-44C9-BF83-AF9280B68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2579-88ED-4C0E-8F08-77C60324B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A7EC-6545-4666-885B-52E53892AB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A9F-F676-4A38-A37E-B8F66664D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493-7A3F-4719-BB0D-9451E8BD0E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7129-A31B-4568-B2EB-C136E0F73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467-DA20-4B97-B4AA-B9562326A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D519-8294-4306-9CED-E795C050B8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9874-E5B5-4B80-B308-0704DDAB2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402-4DAC-4E27-A75A-5A5AFCBC3D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D933-8189-4043-B0AD-CF1216599D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5744-369E-4FBD-9915-0C85BBD37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BF25-B6E9-4C27-99BB-047DB7B8B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64DA-6B0D-4016-B599-0ACAEA9707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55AF-F1F1-4078-ADF4-D23CA67FB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CD2-BF50-4368-A721-A10EC6356E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5668-B8D9-4666-925D-2106E796B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DFE-7B7D-4FD6-92C4-FD19F6F77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E37-CBAB-4C60-BEAE-17D82BFAE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D6B6-9F48-4819-BD78-923243AA4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D4F2-F410-4D56-A1E7-D65A01249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D683-3C7A-4BCD-81F9-CB80CDA08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FEA5-B4E0-46D4-BBA4-3B36DFAFC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CD52-76B8-4D9C-8CB9-E9EDC3A55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936720" y="3156120"/>
            <a:ext cx="742140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266760" y="800280"/>
            <a:ext cx="8610480" cy="5914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2903400" y="2125800"/>
            <a:ext cx="4057920" cy="1323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928800" y="4214880"/>
            <a:ext cx="3381120" cy="809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1954080" y="5143680"/>
            <a:ext cx="289080" cy="264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1589040" y="5761080"/>
            <a:ext cx="287280" cy="264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2249640" y="5749920"/>
            <a:ext cx="287280" cy="264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2900520" y="5743440"/>
            <a:ext cx="288720" cy="265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1571760" y="6378480"/>
            <a:ext cx="288720" cy="265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2232000" y="6367320"/>
            <a:ext cx="287280" cy="265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2882880" y="6362640"/>
            <a:ext cx="289080" cy="265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6" descr=""/>
          <p:cNvPicPr/>
          <p:nvPr/>
        </p:nvPicPr>
        <p:blipFill>
          <a:blip r:embed="rId11"/>
          <a:stretch/>
        </p:blipFill>
        <p:spPr>
          <a:xfrm>
            <a:off x="5635800" y="4017960"/>
            <a:ext cx="3305160" cy="961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6643800" y="5143680"/>
            <a:ext cx="288720" cy="264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6278400" y="5761080"/>
            <a:ext cx="287640" cy="264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6937200" y="5749920"/>
            <a:ext cx="289080" cy="264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7589880" y="5743440"/>
            <a:ext cx="287280" cy="265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6261120" y="6378480"/>
            <a:ext cx="287280" cy="265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6921360" y="6367320"/>
            <a:ext cx="287640" cy="265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7572240" y="6362640"/>
            <a:ext cx="28908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1" descr=""/>
          <p:cNvPicPr/>
          <p:nvPr/>
        </p:nvPicPr>
        <p:blipFill>
          <a:blip r:embed="rId1"/>
          <a:srcRect l="0" t="735" r="0" b="0"/>
          <a:stretch/>
        </p:blipFill>
        <p:spPr>
          <a:xfrm>
            <a:off x="290520" y="684360"/>
            <a:ext cx="8562960" cy="6173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"/>
          <a:stretch/>
        </p:blipFill>
        <p:spPr>
          <a:xfrm>
            <a:off x="1668600" y="10000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3"/>
          <a:stretch/>
        </p:blipFill>
        <p:spPr>
          <a:xfrm>
            <a:off x="1768320" y="1436760"/>
            <a:ext cx="357480" cy="288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4"/>
          <a:stretch/>
        </p:blipFill>
        <p:spPr>
          <a:xfrm>
            <a:off x="3722760" y="101772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5"/>
          <a:stretch/>
        </p:blipFill>
        <p:spPr>
          <a:xfrm>
            <a:off x="3857760" y="145404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6"/>
          <a:stretch/>
        </p:blipFill>
        <p:spPr>
          <a:xfrm>
            <a:off x="5811840" y="9651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7"/>
          <a:stretch/>
        </p:blipFill>
        <p:spPr>
          <a:xfrm>
            <a:off x="5911920" y="14032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8"/>
          <a:stretch/>
        </p:blipFill>
        <p:spPr>
          <a:xfrm>
            <a:off x="7883640" y="9748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9"/>
          <a:stretch/>
        </p:blipFill>
        <p:spPr>
          <a:xfrm>
            <a:off x="7983360" y="1411200"/>
            <a:ext cx="357480" cy="287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10"/>
          <a:stretch/>
        </p:blipFill>
        <p:spPr>
          <a:xfrm>
            <a:off x="1668600" y="342900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11"/>
          <a:stretch/>
        </p:blipFill>
        <p:spPr>
          <a:xfrm>
            <a:off x="3722760" y="344664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12"/>
          <a:stretch/>
        </p:blipFill>
        <p:spPr>
          <a:xfrm>
            <a:off x="5786280" y="3429000"/>
            <a:ext cx="357480" cy="287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13"/>
          <a:stretch/>
        </p:blipFill>
        <p:spPr>
          <a:xfrm>
            <a:off x="7858080" y="342900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14"/>
          <a:stretch/>
        </p:blipFill>
        <p:spPr>
          <a:xfrm>
            <a:off x="1643040" y="38638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15"/>
          <a:stretch/>
        </p:blipFill>
        <p:spPr>
          <a:xfrm>
            <a:off x="3714840" y="388152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16"/>
          <a:stretch/>
        </p:blipFill>
        <p:spPr>
          <a:xfrm>
            <a:off x="5761080" y="38638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17"/>
          <a:stretch/>
        </p:blipFill>
        <p:spPr>
          <a:xfrm>
            <a:off x="7832880" y="38638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3" descr=""/>
          <p:cNvPicPr/>
          <p:nvPr/>
        </p:nvPicPr>
        <p:blipFill>
          <a:blip r:embed="rId18"/>
          <a:stretch/>
        </p:blipFill>
        <p:spPr>
          <a:xfrm>
            <a:off x="768240" y="6438960"/>
            <a:ext cx="28861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14:3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